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2323-6A7C-4B40-BE5B-68C8F861B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98484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ECD4-944D-4576-AE54-B34DD3FE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58E3-1D59-40E4-A2B5-4C1247E49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BAFC-06D0-46D6-96BD-F5A46EEE7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0EAD-FDDA-4665-AE8F-F587841A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401F-8AF9-4C5D-B364-F764B5D4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104C-76CF-44B9-AABC-CEA1C257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08AE-7E8D-46C8-8A85-463986D8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609480"/>
            <a:ext cx="80010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8256-B773-46B3-B3BA-A52440AD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5E69-0A16-4416-8F30-7D30F51F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9BAF-E1EC-40F0-82C8-076F612A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90D1-A321-4FDA-8833-0F63F6BC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1" marL="579240" indent="-22284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2" marL="89136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3" marL="124812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4" marL="160452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5" marL="1604520" indent="-1782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6" marL="1604520" indent="-1782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BFB0-4A43-4781-BE0F-F30149FBEE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AC Futura Casual"/>
              </a:rPr>
              <a:t>Me llamo __________ Clase 6 NH (602)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CAC Futura Casual"/>
              </a:rPr>
              <a:t>La fecha es el __ de octubre del 2012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38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99"/>
                </a:solidFill>
                <a:latin typeface="CAC Futura Casual"/>
              </a:rPr>
              <a:t>Propósito 6: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 ¿De dónde  son ustedes?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99"/>
                </a:solidFill>
                <a:latin typeface="CAC Futura Casual"/>
              </a:rPr>
              <a:t>Actividad Inicial: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TEXTBOOK: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Copia y responde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CAC Futura Casual"/>
              </a:rPr>
              <a:t>Ejercicio 4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 p. R5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¿Quién eres?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¿De qué nacionalidad eres?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¿Dónde eres alumno o alumna?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¿Cómo es tu escuela? 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CAC Futura Casual"/>
              </a:rPr>
              <a:t>Ejercicios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Completa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CAC Futura Casual"/>
              </a:rPr>
              <a:t>Ejercicio 6</a:t>
            </a: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 p. R7 </a:t>
            </a:r>
            <a:r>
              <a:rPr b="0" i="1" lang="en-US" sz="4400" spc="-1" strike="noStrike">
                <a:solidFill>
                  <a:srgbClr val="ffffff"/>
                </a:solidFill>
                <a:latin typeface="CAC Futura Casu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AC Futura Casual"/>
              </a:rPr>
              <a:t>Completa </a:t>
            </a:r>
            <a:r>
              <a:rPr b="0" lang="es-ES_tradnl" sz="4400" spc="-1" strike="noStrike" u="sng">
                <a:solidFill>
                  <a:srgbClr val="ffffff"/>
                </a:solidFill>
                <a:uFillTx/>
                <a:latin typeface="CAC Futura Casual"/>
              </a:rPr>
              <a:t>Ejercicio 7</a:t>
            </a:r>
            <a:r>
              <a:rPr b="0" lang="es-ES_tradnl" sz="4400" spc="-1" strike="noStrike">
                <a:solidFill>
                  <a:srgbClr val="ffffff"/>
                </a:solidFill>
                <a:latin typeface="CAC Futura Casual"/>
              </a:rPr>
              <a:t> p. R7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ffff"/>
                </a:solidFill>
                <a:latin typeface="CAC Futura Casual"/>
              </a:rPr>
              <a:t>Minimo 5 oraciones por cada ejercicio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CAC Futura Casual"/>
              </a:rPr>
              <a:t>Tarea # 6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Escribe 10 oraciones originales con el verbo SER. </a:t>
            </a:r>
            <a:r>
              <a:rPr b="0" i="1" lang="en-US" sz="3200" spc="-1" strike="noStrike">
                <a:solidFill>
                  <a:srgbClr val="ffffff"/>
                </a:solidFill>
                <a:latin typeface="CAC Futura Casual"/>
              </a:rPr>
              <a:t>(solo puedes usar el pronombre YO 1 vez)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7:42:38Z</dcterms:created>
  <dc:creator>Helen Zumaeta</dc:creator>
  <dc:description/>
  <dc:language>en-US</dc:language>
  <cp:lastModifiedBy>Helen Zumaeta</cp:lastModifiedBy>
  <dcterms:modified xsi:type="dcterms:W3CDTF">2012-10-01T13:34:22Z</dcterms:modified>
  <cp:revision>6</cp:revision>
  <dc:subject/>
  <dc:title>Me llamo __________ Clase 6 NH La fecha es el 20 de enero del 2011</dc:title>
</cp:coreProperties>
</file>